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1A90-E109-4E00-BE48-D6A39786A4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- Ein Schüler konnte nicht folgen, weil er seine Brille vergessen hat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Große Diskrepanz in den Antworten, weil TR – Schüler teilweise Probleme mit Ö – Schülern ha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Schüler konnte in Ermangelung der deutschen Sprache dem Gespräch nicht richtig folg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EA0-B6FB-4D97-BCEB-F5217D13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2FB-19E0-41A8-A4FD-E7281FBE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E9DD-5626-4B5B-9076-7DE86EC6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18A-28B3-465D-83B2-5822B6F3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5A4-4EEB-43C6-B6B0-681157FB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464-F0B9-44D5-855B-3582B476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A01-12C0-45BA-8E29-F61E519E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325-DCB9-4949-8B3A-0582BBA3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582-00A2-4B4E-B841-777553B8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358-4A50-4847-AB3E-5D39CD7D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69E-1B14-4E96-BCA5-78075370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4A0-8BBF-4082-A92E-25E91FC6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81CF-4D8F-46CB-AEB1-5C0AEC9C6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gen zur Zielscheibe -Neuseelandstu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- Bist du mit deinem bisher erworbenen Wortschatz ausgekom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- War das verwendete Kartenmaterial anschaulich genu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- Hast du mehr mitgearbeitet als in einer normalen Stun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- Fandest du diese GW- Stunde spannender als herkömmlic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47640" y="0"/>
            <a:ext cx="6697800" cy="6697800"/>
          </a:xfrm>
          <a:prstGeom prst="ellipse">
            <a:avLst/>
          </a:prstGeom>
          <a:solidFill>
            <a:srgbClr val="582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5640" y="549360"/>
            <a:ext cx="5329080" cy="5329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557360"/>
            <a:ext cx="3097080" cy="3097080"/>
          </a:xfrm>
          <a:prstGeom prst="ellipse">
            <a:avLst/>
          </a:prstGeom>
          <a:solidFill>
            <a:srgbClr val="3ff8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11640" y="2421000"/>
            <a:ext cx="1440000" cy="1439640"/>
          </a:xfrm>
          <a:prstGeom prst="ellipse">
            <a:avLst/>
          </a:prstGeom>
          <a:solidFill>
            <a:srgbClr val="df09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3357720"/>
            <a:ext cx="676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589720"/>
            <a:ext cx="20174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f0909"/>
                </a:solidFill>
                <a:latin typeface="Arial"/>
              </a:rPr>
              <a:t>rot_-trifft voll 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ff83a"/>
                </a:solidFill>
                <a:latin typeface="Arial"/>
              </a:rPr>
              <a:t>Grün-trifft überwiegend 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ff"/>
                </a:solidFill>
                <a:latin typeface="Arial"/>
              </a:rPr>
              <a:t>Gelb-trifft teilweise 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82df5"/>
                </a:solidFill>
                <a:latin typeface="Arial"/>
              </a:rPr>
              <a:t>Blau-trifft gar nicht 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292428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7640" y="549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56720" y="5157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39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126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050920" y="191628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55640" y="1628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84720" y="62064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218920" y="260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732000" y="234936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003640" y="83664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588000" y="177336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7280" y="134136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939640" y="29242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650920" y="2492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147640" y="3068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58560" y="2781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147640" y="198900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218920" y="2781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003640" y="256536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292000" y="5013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155640" y="4508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292000" y="59500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147640" y="422100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434920" y="4076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579280" y="3789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724360" y="357336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364000" y="378936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508000" y="3500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076720" y="386064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931640" y="4076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931640" y="357336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218920" y="335772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931640" y="342900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643280" y="227664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500000" y="234936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500280"/>
            <a:ext cx="792000" cy="368280"/>
          </a:xfrm>
          <a:prstGeom prst="rect">
            <a:avLst/>
          </a:prstGeom>
          <a:solidFill>
            <a:srgbClr val="fafa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210920" y="242100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066560" y="2565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066560" y="2781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923640" y="2852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995640" y="306864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571280" y="2492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571280" y="27082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56000" y="270828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210920" y="29242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71280" y="2852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284000" y="314172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571280" y="3068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33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seelandst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gen Zielscheibe (GS-Stunde) Beziehungen zwischen Ö-TR im 1.Weltkri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 – Hat dich das Thema interessie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 – Hat Dr. Buchmann verständlich erklä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 – Haben dir die Einspielungen von YouTube gefal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 – Hast du dich gut ausgekan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47640" y="0"/>
            <a:ext cx="6697800" cy="6697800"/>
          </a:xfrm>
          <a:prstGeom prst="ellipse">
            <a:avLst/>
          </a:prstGeom>
          <a:solidFill>
            <a:srgbClr val="582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49360"/>
            <a:ext cx="5329080" cy="5329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1557360"/>
            <a:ext cx="3097080" cy="3097080"/>
          </a:xfrm>
          <a:prstGeom prst="ellipse">
            <a:avLst/>
          </a:prstGeom>
          <a:solidFill>
            <a:srgbClr val="3ff8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2421000"/>
            <a:ext cx="1440000" cy="1439640"/>
          </a:xfrm>
          <a:prstGeom prst="ellipse">
            <a:avLst/>
          </a:prstGeom>
          <a:solidFill>
            <a:srgbClr val="df09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6360" y="3357720"/>
            <a:ext cx="676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589720"/>
            <a:ext cx="20174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f0909"/>
                </a:solidFill>
                <a:latin typeface="Arial"/>
              </a:rPr>
              <a:t>rot_-trifft voll 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ff83a"/>
                </a:solidFill>
                <a:latin typeface="Arial"/>
              </a:rPr>
              <a:t>Grün-trifft überwiegend 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ff"/>
                </a:solidFill>
                <a:latin typeface="Arial"/>
              </a:rPr>
              <a:t>Gelb-trifft teilweise 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82df5"/>
                </a:solidFill>
                <a:latin typeface="Arial"/>
              </a:rPr>
              <a:t>Blau-trifft gar nicht 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292428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67640" y="549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956720" y="5157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39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184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050920" y="191628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803280" y="1052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084720" y="62064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218920" y="260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76720" y="292428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524000" y="220500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364000" y="270828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442920" y="549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939640" y="29242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50920" y="2492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524000" y="17002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858560" y="2781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147640" y="198900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364000" y="227664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003640" y="256536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292000" y="5013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155640" y="4508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292000" y="59500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147640" y="422100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442920" y="558972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579280" y="3789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524000" y="4292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64000" y="378936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508000" y="3500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076720" y="386064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931640" y="4076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931640" y="357336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218920" y="335772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931640" y="342900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643280" y="227664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139640" y="98100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3500280"/>
            <a:ext cx="792000" cy="368280"/>
          </a:xfrm>
          <a:prstGeom prst="rect">
            <a:avLst/>
          </a:prstGeom>
          <a:solidFill>
            <a:srgbClr val="fafa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347280" y="134136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418920" y="2492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066560" y="2781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923640" y="2852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995640" y="306864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132000" y="198900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066560" y="1844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834560" y="263700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210920" y="29242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1280" y="2852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284000" y="314172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571280" y="3068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26028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st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Bu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gen zur Zielscheib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omreak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 – Konntest du den Erklärungen des Atomwissenschaftlers Dr. Sterba fol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 – Sind dir die Gefahren des Umgangs mit Atomenergie bewusster gewor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 – Würdest du die Stunde in dieser Form noch einmal erleben wol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 – Würdest du die Stunde anderen Klassen weiterempfeh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47640" y="0"/>
            <a:ext cx="6697800" cy="6697800"/>
          </a:xfrm>
          <a:prstGeom prst="ellipse">
            <a:avLst/>
          </a:prstGeom>
          <a:solidFill>
            <a:srgbClr val="582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549360"/>
            <a:ext cx="5329080" cy="5329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1557360"/>
            <a:ext cx="3097080" cy="3097080"/>
          </a:xfrm>
          <a:prstGeom prst="ellipse">
            <a:avLst/>
          </a:prstGeom>
          <a:solidFill>
            <a:srgbClr val="3ff8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11640" y="2421000"/>
            <a:ext cx="1440000" cy="1439640"/>
          </a:xfrm>
          <a:prstGeom prst="ellipse">
            <a:avLst/>
          </a:prstGeom>
          <a:solidFill>
            <a:srgbClr val="df09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3357720"/>
            <a:ext cx="676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5589720"/>
            <a:ext cx="20174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f0909"/>
                </a:solidFill>
                <a:latin typeface="Arial"/>
              </a:rPr>
              <a:t>rot_-trifft voll 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ff83a"/>
                </a:solidFill>
                <a:latin typeface="Arial"/>
              </a:rPr>
              <a:t>Grün-trifft überwiegend 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ff"/>
                </a:solidFill>
                <a:latin typeface="Arial"/>
              </a:rPr>
              <a:t>Gelb-trifft teilweise 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82df5"/>
                </a:solidFill>
                <a:latin typeface="Arial"/>
              </a:rPr>
              <a:t>Blau-trifft gar nicht 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292428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67640" y="549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56720" y="5157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39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184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155640" y="1628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084720" y="62064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218920" y="260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732000" y="234936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003640" y="83664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588000" y="177336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658920" y="90792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39640" y="29242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650920" y="2492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147640" y="3068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858560" y="2781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147640" y="198900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658920" y="263700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003640" y="256536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292000" y="5013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155640" y="4508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292000" y="59500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147640" y="422100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434920" y="4076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588000" y="393372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724360" y="357336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364000" y="378936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508000" y="3500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076720" y="386064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931640" y="4076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931640" y="357336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00720" y="407664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931640" y="342900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643280" y="227664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500000" y="234936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210920" y="242100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066560" y="2565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066560" y="2781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923640" y="2852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995640" y="306864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571280" y="2492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571280" y="27082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356000" y="270828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210920" y="29242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571280" y="2852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284000" y="314172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571280" y="3068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26028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st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rea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139640" y="357336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418920" y="4292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842560" y="3789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555280" y="3716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94920" y="4508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571280" y="342900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426920" y="3789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210920" y="494172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555280" y="515772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562200" y="342756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777480" y="364320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93480" y="385920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209480" y="407520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63280" y="5013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gen zur Zielscheib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 - Fandest du das Gespräch mit Frau Doktor Ristl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 – Konnte sie dir Fakten mitteilen, die du noch nicht wusst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 – Weißt du jetzt genau wie du dich vor einer Ansteckung mit dem HIV - Virus schützen kann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 – Fühlst  du dich sicherer im Umgang mit HIV – Infizier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547640" y="0"/>
            <a:ext cx="6697800" cy="6697800"/>
          </a:xfrm>
          <a:prstGeom prst="ellipse">
            <a:avLst/>
          </a:prstGeom>
          <a:solidFill>
            <a:srgbClr val="582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95640" y="549360"/>
            <a:ext cx="5329080" cy="5329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1557360"/>
            <a:ext cx="3097080" cy="3097080"/>
          </a:xfrm>
          <a:prstGeom prst="ellipse">
            <a:avLst/>
          </a:prstGeom>
          <a:solidFill>
            <a:srgbClr val="3ff8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2421000"/>
            <a:ext cx="1440000" cy="1439640"/>
          </a:xfrm>
          <a:prstGeom prst="ellipse">
            <a:avLst/>
          </a:prstGeom>
          <a:solidFill>
            <a:srgbClr val="df09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76360" y="3357720"/>
            <a:ext cx="676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5589720"/>
            <a:ext cx="20174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f0909"/>
                </a:solidFill>
                <a:latin typeface="Arial"/>
              </a:rPr>
              <a:t>rot_-trifft voll 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ff83a"/>
                </a:solidFill>
                <a:latin typeface="Arial"/>
              </a:rPr>
              <a:t>Grün-trifft überwiegend 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ff"/>
                </a:solidFill>
                <a:latin typeface="Arial"/>
              </a:rPr>
              <a:t>Gelb-trifft teilweise 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82df5"/>
                </a:solidFill>
                <a:latin typeface="Arial"/>
              </a:rPr>
              <a:t>Blau-trifft gar nicht z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03640" y="292428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67640" y="549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56720" y="5157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39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184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364000" y="184464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218920" y="260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147640" y="27082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003640" y="83664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292000" y="314172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939640" y="29242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650920" y="2492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147640" y="3068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58560" y="2781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147640" y="198900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6658920" y="263700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003640" y="256536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5292000" y="5013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155640" y="4508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292000" y="59500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147640" y="422100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434920" y="4076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588000" y="393372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588000" y="350028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364000" y="378936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939640" y="5013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076720" y="386064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931640" y="4076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931640" y="357336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300720" y="407664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931640" y="342900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643280" y="227664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500000" y="234936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210920" y="242100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066560" y="2565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066560" y="2781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923640" y="2852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995640" y="306864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571280" y="2492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571280" y="27082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356000" y="270828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210920" y="29242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571280" y="2852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284000" y="314172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571280" y="3068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260280"/>
            <a:ext cx="17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st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139640" y="357336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418920" y="4292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842560" y="3789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555280" y="3716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771640" y="422100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571280" y="342900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4426920" y="3789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210920" y="494172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555280" y="515772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562200" y="342756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777480" y="364320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993480" y="385920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209480" y="407520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563280" y="5013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795280" y="213372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292000" y="2852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931640" y="2997360"/>
            <a:ext cx="144360" cy="1443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939640" y="2565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218920" y="213372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939640" y="3068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859280" y="1700280"/>
            <a:ext cx="217440" cy="2160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650920" y="278136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308000" y="3500280"/>
            <a:ext cx="73080" cy="2160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163640" y="3932280"/>
            <a:ext cx="73080" cy="2160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803280" y="3716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588000" y="458136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6732000" y="4292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5724360" y="371628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571280" y="4005360"/>
            <a:ext cx="144360" cy="1443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500000" y="4292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210920" y="429264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923640" y="407664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923640" y="3500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716360" y="3573360"/>
            <a:ext cx="21456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356000" y="191628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4066560" y="19162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058560" y="6922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916360" y="2637000"/>
            <a:ext cx="215640" cy="7128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132000" y="1773360"/>
            <a:ext cx="21456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418920" y="1484280"/>
            <a:ext cx="214200" cy="16020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066560" y="1268280"/>
            <a:ext cx="214200" cy="160560"/>
          </a:xfrm>
          <a:prstGeom prst="flowChartConnector">
            <a:avLst/>
          </a:prstGeom>
          <a:solidFill>
            <a:srgbClr val="fafa04"/>
          </a:solidFill>
          <a:ln w="9360">
            <a:solidFill>
              <a:srgbClr val="faf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2:16:01Z</dcterms:created>
  <dc:creator>MICHI</dc:creator>
  <dc:description/>
  <dc:language>en-US</dc:language>
  <cp:lastModifiedBy>MICHI</cp:lastModifiedBy>
  <dcterms:modified xsi:type="dcterms:W3CDTF">2010-06-06T15:40:29Z</dcterms:modified>
  <cp:revision>33</cp:revision>
  <dc:subject/>
  <dc:title>Folie 1</dc:title>
</cp:coreProperties>
</file>